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A24FD5-31D4-4A43-B518-E422CEF2B14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E39B36-3758-4922-AAEB-7572A99C84C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22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0920" y="2976120"/>
            <a:ext cx="822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6796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29761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467960" y="29761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33360" y="14569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815800" y="14569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0920" y="29761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33360" y="29761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815800" y="29761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0920" y="1456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015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67960" y="1456920"/>
            <a:ext cx="4015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7960" y="1456920"/>
            <a:ext cx="4015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0920" y="29761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250920" y="1456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015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67960" y="29761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6796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920" y="2976120"/>
            <a:ext cx="822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22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920" y="2976120"/>
            <a:ext cx="822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6796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29761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67960" y="29761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33360" y="14569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15800" y="14569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0920" y="29761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33360" y="29761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15800" y="2976120"/>
            <a:ext cx="264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015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467960" y="1456920"/>
            <a:ext cx="4015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7960" y="1456920"/>
            <a:ext cx="4015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250920" y="29761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015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6796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67960" y="29761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7960" y="1456920"/>
            <a:ext cx="40158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920" y="2976120"/>
            <a:ext cx="8229600" cy="13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0920" y="1456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157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37"/>
          <p:cNvSpPr/>
          <p:nvPr/>
        </p:nvSpPr>
        <p:spPr>
          <a:xfrm>
            <a:off x="250920" y="260280"/>
            <a:ext cx="86421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Raum für NAME und 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Line 3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8"/>
          <p:cNvSpPr/>
          <p:nvPr/>
        </p:nvSpPr>
        <p:spPr>
          <a:xfrm>
            <a:off x="250920" y="6381720"/>
            <a:ext cx="8642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aum für Fußzeile (Name, Seitenangaben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36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50920" y="1456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157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9e6"/>
                </a:solidFill>
                <a:latin typeface="Arial"/>
              </a:rPr>
              <a:t>Schulwegplän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– Ein wichtiger Beitrag zur Sicherheit auf dem Schul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&lt;&lt;Veranstaltungsname&gt;&gt;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&lt;&lt;Veranstaltungsort, Datum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003640" y="3716280"/>
            <a:ext cx="16336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7"/>
          <p:cNvGrpSpPr/>
          <p:nvPr/>
        </p:nvGrpSpPr>
        <p:grpSpPr>
          <a:xfrm>
            <a:off x="0" y="5084640"/>
            <a:ext cx="9144000" cy="1152720"/>
            <a:chOff x="0" y="5084640"/>
            <a:chExt cx="9144000" cy="1152720"/>
          </a:xfrm>
        </p:grpSpPr>
        <p:sp>
          <p:nvSpPr>
            <p:cNvPr id="89" name="Rectangle 16"/>
            <p:cNvSpPr/>
            <p:nvPr/>
          </p:nvSpPr>
          <p:spPr>
            <a:xfrm>
              <a:off x="0" y="5084640"/>
              <a:ext cx="9144000" cy="115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8" descr="Lotse1"/>
            <p:cNvPicPr/>
            <p:nvPr/>
          </p:nvPicPr>
          <p:blipFill>
            <a:blip r:embed="rId1"/>
            <a:stretch/>
          </p:blipFill>
          <p:spPr>
            <a:xfrm>
              <a:off x="106200" y="5122800"/>
              <a:ext cx="1081080" cy="10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Ampel"/>
            <p:cNvPicPr/>
            <p:nvPr/>
          </p:nvPicPr>
          <p:blipFill>
            <a:blip r:embed="rId2"/>
            <a:stretch/>
          </p:blipFill>
          <p:spPr>
            <a:xfrm>
              <a:off x="1227240" y="5118120"/>
              <a:ext cx="12571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0" descr="Nordpfeil"/>
            <p:cNvPicPr/>
            <p:nvPr/>
          </p:nvPicPr>
          <p:blipFill>
            <a:blip r:embed="rId3"/>
            <a:stretch/>
          </p:blipFill>
          <p:spPr>
            <a:xfrm>
              <a:off x="2417760" y="5114880"/>
              <a:ext cx="107460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1" descr="Gefahrenstelle2"/>
            <p:cNvPicPr/>
            <p:nvPr/>
          </p:nvPicPr>
          <p:blipFill>
            <a:blip r:embed="rId4"/>
            <a:stretch/>
          </p:blipFill>
          <p:spPr>
            <a:xfrm>
              <a:off x="5756400" y="5143680"/>
              <a:ext cx="112068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2" descr="Polizei"/>
            <p:cNvPicPr/>
            <p:nvPr/>
          </p:nvPicPr>
          <p:blipFill>
            <a:blip r:embed="rId5"/>
            <a:stretch/>
          </p:blipFill>
          <p:spPr>
            <a:xfrm>
              <a:off x="6885000" y="5127480"/>
              <a:ext cx="107172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3" descr="Zebra4"/>
            <p:cNvPicPr/>
            <p:nvPr/>
          </p:nvPicPr>
          <p:blipFill>
            <a:blip r:embed="rId6"/>
            <a:stretch/>
          </p:blipFill>
          <p:spPr>
            <a:xfrm>
              <a:off x="3481560" y="5119560"/>
              <a:ext cx="109044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4" descr="Zebra1"/>
            <p:cNvPicPr/>
            <p:nvPr/>
          </p:nvPicPr>
          <p:blipFill>
            <a:blip r:embed="rId7"/>
            <a:stretch/>
          </p:blipFill>
          <p:spPr>
            <a:xfrm>
              <a:off x="4632480" y="5127480"/>
              <a:ext cx="101916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5" descr="Schule1"/>
            <p:cNvPicPr/>
            <p:nvPr/>
          </p:nvPicPr>
          <p:blipFill>
            <a:blip r:embed="rId8"/>
            <a:stretch/>
          </p:blipFill>
          <p:spPr>
            <a:xfrm>
              <a:off x="7900920" y="5138640"/>
              <a:ext cx="1135080" cy="103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3" descr=""/>
          <p:cNvPicPr/>
          <p:nvPr/>
        </p:nvPicPr>
        <p:blipFill>
          <a:blip r:embed="rId1"/>
          <a:stretch/>
        </p:blipFill>
        <p:spPr>
          <a:xfrm>
            <a:off x="2222640" y="2087640"/>
            <a:ext cx="4676760" cy="3286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1456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Welche </a:t>
            </a:r>
            <a:r>
              <a:rPr b="1" lang="de-DE" sz="2400" spc="-1" strike="noStrike" u="sng">
                <a:solidFill>
                  <a:srgbClr val="0019e6"/>
                </a:solidFill>
                <a:uFillTx/>
                <a:latin typeface="Arial"/>
              </a:rPr>
              <a:t>Inhalte</a:t>
            </a: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 können Schulwegpläne hab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 rot="16200000">
            <a:off x="5954760" y="412236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Quelle: www.grundschule-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gw.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6"/>
          <p:cNvSpPr/>
          <p:nvPr/>
        </p:nvSpPr>
        <p:spPr>
          <a:xfrm>
            <a:off x="2270160" y="2201760"/>
            <a:ext cx="2295360" cy="2295720"/>
          </a:xfrm>
          <a:prstGeom prst="ellipse">
            <a:avLst/>
          </a:prstGeom>
          <a:noFill/>
          <a:ln w="255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7"/>
          <p:cNvSpPr/>
          <p:nvPr/>
        </p:nvSpPr>
        <p:spPr>
          <a:xfrm>
            <a:off x="2317680" y="4440240"/>
            <a:ext cx="1000080" cy="971640"/>
          </a:xfrm>
          <a:prstGeom prst="ellipse">
            <a:avLst/>
          </a:prstGeom>
          <a:noFill/>
          <a:ln w="255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8"/>
          <p:cNvSpPr/>
          <p:nvPr/>
        </p:nvSpPr>
        <p:spPr>
          <a:xfrm>
            <a:off x="3422520" y="4440240"/>
            <a:ext cx="1152720" cy="971640"/>
          </a:xfrm>
          <a:prstGeom prst="ellipse">
            <a:avLst/>
          </a:prstGeom>
          <a:noFill/>
          <a:ln w="255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9"/>
          <p:cNvSpPr/>
          <p:nvPr/>
        </p:nvSpPr>
        <p:spPr>
          <a:xfrm>
            <a:off x="4556160" y="2077920"/>
            <a:ext cx="1257120" cy="3238560"/>
          </a:xfrm>
          <a:prstGeom prst="ellipse">
            <a:avLst/>
          </a:prstGeom>
          <a:noFill/>
          <a:ln w="255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5718240" y="4402080"/>
            <a:ext cx="1152360" cy="971640"/>
          </a:xfrm>
          <a:prstGeom prst="ellipse">
            <a:avLst/>
          </a:prstGeom>
          <a:noFill/>
          <a:ln w="255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1"/>
          <p:cNvSpPr/>
          <p:nvPr/>
        </p:nvSpPr>
        <p:spPr>
          <a:xfrm>
            <a:off x="5718240" y="2125800"/>
            <a:ext cx="1181160" cy="1228680"/>
          </a:xfrm>
          <a:prstGeom prst="ellipse">
            <a:avLst/>
          </a:prstGeom>
          <a:noFill/>
          <a:ln w="255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108000" y="3220920"/>
            <a:ext cx="1657440" cy="337320"/>
          </a:xfrm>
          <a:prstGeom prst="rect">
            <a:avLst/>
          </a:prstGeom>
          <a:noFill/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ichts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108000" y="4411800"/>
            <a:ext cx="1657440" cy="1067400"/>
          </a:xfrm>
          <a:prstGeom prst="rect">
            <a:avLst/>
          </a:prstGeom>
          <a:noFill/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e zur Wahl des sicheren Schulw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108000" y="5802480"/>
            <a:ext cx="2638440" cy="337320"/>
          </a:xfrm>
          <a:prstGeom prst="rect">
            <a:avLst/>
          </a:prstGeom>
          <a:noFill/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e zum Radfah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7175520" y="3259080"/>
            <a:ext cx="1762200" cy="337320"/>
          </a:xfrm>
          <a:prstGeom prst="rect">
            <a:avLst/>
          </a:prstGeom>
          <a:noFill/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6"/>
          <p:cNvSpPr/>
          <p:nvPr/>
        </p:nvSpPr>
        <p:spPr>
          <a:xfrm>
            <a:off x="3365640" y="5802480"/>
            <a:ext cx="5505480" cy="337320"/>
          </a:xfrm>
          <a:prstGeom prst="rect">
            <a:avLst/>
          </a:prstGeom>
          <a:noFill/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liche und textliche Erläuterung von Gefahren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7"/>
          <p:cNvSpPr/>
          <p:nvPr/>
        </p:nvSpPr>
        <p:spPr>
          <a:xfrm>
            <a:off x="1765440" y="3392640"/>
            <a:ext cx="504720" cy="0"/>
          </a:xfrm>
          <a:prstGeom prst="line">
            <a:avLst/>
          </a:prstGeom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8"/>
          <p:cNvSpPr/>
          <p:nvPr/>
        </p:nvSpPr>
        <p:spPr>
          <a:xfrm>
            <a:off x="1784520" y="4935600"/>
            <a:ext cx="542880" cy="0"/>
          </a:xfrm>
          <a:prstGeom prst="line">
            <a:avLst/>
          </a:prstGeom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9"/>
          <p:cNvSpPr/>
          <p:nvPr/>
        </p:nvSpPr>
        <p:spPr>
          <a:xfrm flipV="1">
            <a:off x="2736720" y="5411520"/>
            <a:ext cx="1209960" cy="390600"/>
          </a:xfrm>
          <a:prstGeom prst="line">
            <a:avLst/>
          </a:prstGeom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0"/>
          <p:cNvSpPr/>
          <p:nvPr/>
        </p:nvSpPr>
        <p:spPr>
          <a:xfrm flipV="1">
            <a:off x="5194440" y="5316480"/>
            <a:ext cx="0" cy="486000"/>
          </a:xfrm>
          <a:prstGeom prst="line">
            <a:avLst/>
          </a:prstGeom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6746760" y="3144960"/>
            <a:ext cx="428760" cy="266400"/>
          </a:xfrm>
          <a:prstGeom prst="line">
            <a:avLst/>
          </a:prstGeom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 flipV="1">
            <a:off x="6670800" y="3487320"/>
            <a:ext cx="495000" cy="1019160"/>
          </a:xfrm>
          <a:prstGeom prst="line">
            <a:avLst/>
          </a:prstGeom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920" y="1456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Welchen </a:t>
            </a:r>
            <a:r>
              <a:rPr b="1" lang="de-DE" sz="2400" spc="-1" strike="noStrike" u="sng">
                <a:solidFill>
                  <a:srgbClr val="0019e6"/>
                </a:solidFill>
                <a:uFillTx/>
                <a:latin typeface="Arial"/>
              </a:rPr>
              <a:t>Nutzen</a:t>
            </a: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 haben Schulwegplä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tützung der </a:t>
            </a:r>
            <a:r>
              <a:rPr b="0" lang="de-DE" sz="2000" spc="-1" strike="noStrike">
                <a:solidFill>
                  <a:srgbClr val="0019e6"/>
                </a:solidFill>
                <a:latin typeface="Arial"/>
              </a:rPr>
              <a:t>Mobilitätserzieh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der 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lwegpläne und deren Erstellungsprozess können ein </a:t>
            </a:r>
            <a:r>
              <a:rPr b="0" lang="de-DE" sz="2000" spc="-1" strike="noStrike">
                <a:solidFill>
                  <a:srgbClr val="0019e6"/>
                </a:solidFill>
                <a:latin typeface="Arial"/>
              </a:rPr>
              <a:t>Baustein des Verkehrserziehungsunterricht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n und diesen als praktisches Beispiel bereichern und unterstüt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öhung der </a:t>
            </a:r>
            <a:r>
              <a:rPr b="0" lang="de-DE" sz="2000" spc="-1" strike="noStrike">
                <a:solidFill>
                  <a:srgbClr val="0019e6"/>
                </a:solidFill>
                <a:latin typeface="Arial"/>
              </a:rPr>
              <a:t>Verkehrs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tützung der Mobilitäts- und Verkehrssicherheitserziehung der </a:t>
            </a:r>
            <a:r>
              <a:rPr b="0" lang="de-DE" sz="2000" spc="-1" strike="noStrike">
                <a:solidFill>
                  <a:srgbClr val="0019e6"/>
                </a:solidFill>
                <a:latin typeface="Arial"/>
              </a:rPr>
              <a:t>El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lwegpläne bzw. deren Erstellungsprozess können </a:t>
            </a:r>
            <a:r>
              <a:rPr b="0" lang="de-DE" sz="2000" spc="-1" strike="noStrike">
                <a:solidFill>
                  <a:srgbClr val="0019e6"/>
                </a:solidFill>
                <a:latin typeface="Arial"/>
              </a:rPr>
              <a:t>Defizite in der Infrastruktur erke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evor Unfälle ent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Erstellungsprozess kann die </a:t>
            </a:r>
            <a:r>
              <a:rPr b="0" lang="de-DE" sz="2000" spc="-1" strike="noStrike">
                <a:solidFill>
                  <a:srgbClr val="0019e6"/>
                </a:solidFill>
                <a:latin typeface="Arial"/>
              </a:rPr>
              <a:t>lokalen Akteure vern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1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19e6"/>
                </a:solidFill>
                <a:latin typeface="Arial"/>
              </a:rPr>
              <a:t>Sensibilisi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die Themen Verkehrssicherheit und Mobilität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6840" y="1456920"/>
            <a:ext cx="555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Wie erstelle ich Schulwegplä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400" spc="-1" strike="noStrike" u="sng">
                <a:solidFill>
                  <a:srgbClr val="0019e6"/>
                </a:solidFill>
                <a:uFillTx/>
                <a:latin typeface="Arial"/>
              </a:rPr>
              <a:t>Leitfa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klärt mit einfachen Worten </a:t>
            </a: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Schritt für Schrit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wie gute Schulwegpläne erstellt werden. Inhalte sind z. 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9e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grundinfos, Literaturempfehl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9e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blick über den Erstellungsprozess und Beteili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9e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listen zur Überprüfung von Überquerungs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9e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aktische Tipps für Bestandsauf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9e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lagen für eine Elternbefrag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afik 3" descr="Broschuere-Schulwegpläne-Internet_Page_01.jpg"/>
          <p:cNvPicPr/>
          <p:nvPr/>
        </p:nvPicPr>
        <p:blipFill>
          <a:blip r:embed="rId1"/>
          <a:stretch/>
        </p:blipFill>
        <p:spPr>
          <a:xfrm>
            <a:off x="5651640" y="1557360"/>
            <a:ext cx="326376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250920" y="1457280"/>
            <a:ext cx="40384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19e6"/>
                </a:solidFill>
                <a:latin typeface="Arial"/>
              </a:rPr>
              <a:t>Wen brauche ich daz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16000" y="4437000"/>
            <a:ext cx="35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ätzlich z. B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tern, Schüler, Deutsche Verkehrswacht, Schülerunfallversicherung, Straßenbaulastträger, Vereine/Verbände (z.B. ADF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rcRect l="3353" t="21962" r="2505" b="20703"/>
          <a:stretch/>
        </p:blipFill>
        <p:spPr>
          <a:xfrm>
            <a:off x="3468600" y="1341360"/>
            <a:ext cx="56754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2349360"/>
            <a:ext cx="91440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6000" spc="-1" strike="noStrike">
                <a:solidFill>
                  <a:srgbClr val="0019e6"/>
                </a:solidFill>
                <a:latin typeface="Arial"/>
              </a:rPr>
              <a:t>Überzeug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&lt;&lt;Name Ansprechpartner&gt;&gt;</a:t>
            </a:r>
            <a:br>
              <a:rPr sz="1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&lt;&lt;Kontaktdaten Ansprechpartner&gt;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0" y="5084640"/>
            <a:ext cx="9144000" cy="1152720"/>
            <a:chOff x="0" y="5084640"/>
            <a:chExt cx="9144000" cy="1152720"/>
          </a:xfrm>
        </p:grpSpPr>
        <p:sp>
          <p:nvSpPr>
            <p:cNvPr id="180" name="Rectangle 8"/>
            <p:cNvSpPr/>
            <p:nvPr/>
          </p:nvSpPr>
          <p:spPr>
            <a:xfrm>
              <a:off x="0" y="5084640"/>
              <a:ext cx="9144000" cy="115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9" descr="Lotse1"/>
            <p:cNvPicPr/>
            <p:nvPr/>
          </p:nvPicPr>
          <p:blipFill>
            <a:blip r:embed="rId1"/>
            <a:stretch/>
          </p:blipFill>
          <p:spPr>
            <a:xfrm>
              <a:off x="106200" y="5122800"/>
              <a:ext cx="1081080" cy="10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0" descr="Ampel"/>
            <p:cNvPicPr/>
            <p:nvPr/>
          </p:nvPicPr>
          <p:blipFill>
            <a:blip r:embed="rId2"/>
            <a:stretch/>
          </p:blipFill>
          <p:spPr>
            <a:xfrm>
              <a:off x="1227240" y="5118120"/>
              <a:ext cx="12571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1" descr="Nordpfeil"/>
            <p:cNvPicPr/>
            <p:nvPr/>
          </p:nvPicPr>
          <p:blipFill>
            <a:blip r:embed="rId3"/>
            <a:stretch/>
          </p:blipFill>
          <p:spPr>
            <a:xfrm>
              <a:off x="2417760" y="5114880"/>
              <a:ext cx="107460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2" descr="Gefahrenstelle2"/>
            <p:cNvPicPr/>
            <p:nvPr/>
          </p:nvPicPr>
          <p:blipFill>
            <a:blip r:embed="rId4"/>
            <a:stretch/>
          </p:blipFill>
          <p:spPr>
            <a:xfrm>
              <a:off x="5756400" y="5143680"/>
              <a:ext cx="112068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3" descr="Polizei"/>
            <p:cNvPicPr/>
            <p:nvPr/>
          </p:nvPicPr>
          <p:blipFill>
            <a:blip r:embed="rId5"/>
            <a:stretch/>
          </p:blipFill>
          <p:spPr>
            <a:xfrm>
              <a:off x="6885000" y="5127480"/>
              <a:ext cx="107172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4" descr="Zebra4"/>
            <p:cNvPicPr/>
            <p:nvPr/>
          </p:nvPicPr>
          <p:blipFill>
            <a:blip r:embed="rId6"/>
            <a:stretch/>
          </p:blipFill>
          <p:spPr>
            <a:xfrm>
              <a:off x="3481560" y="5119560"/>
              <a:ext cx="109044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5" descr="Zebra1"/>
            <p:cNvPicPr/>
            <p:nvPr/>
          </p:nvPicPr>
          <p:blipFill>
            <a:blip r:embed="rId7"/>
            <a:stretch/>
          </p:blipFill>
          <p:spPr>
            <a:xfrm>
              <a:off x="4632480" y="5127480"/>
              <a:ext cx="101916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6" descr="Schule1"/>
            <p:cNvPicPr/>
            <p:nvPr/>
          </p:nvPicPr>
          <p:blipFill>
            <a:blip r:embed="rId8"/>
            <a:stretch/>
          </p:blipFill>
          <p:spPr>
            <a:xfrm>
              <a:off x="7900920" y="5138640"/>
              <a:ext cx="1135080" cy="103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50920" y="126828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19e6"/>
                </a:solidFill>
                <a:latin typeface="Arial"/>
              </a:rPr>
              <a:t>Warum Schulwegpläne? Sind Schulwegpläne überhaupt notwend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611280" y="1700280"/>
            <a:ext cx="813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tliche Entwicklung des Schulwegunfallgeschehens in der Schülerunfallversich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 rot="16200000">
            <a:off x="7726320" y="474588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: Zahlen DGUV; eigene Da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m 10" descr=""/>
          <p:cNvPicPr/>
          <p:nvPr/>
        </p:nvPicPr>
        <p:blipFill>
          <a:blip r:embed="rId1"/>
          <a:stretch/>
        </p:blipFill>
        <p:spPr>
          <a:xfrm>
            <a:off x="749160" y="2200320"/>
            <a:ext cx="74311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1312920"/>
            <a:ext cx="9144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lweg-Straßenverkehrsunfälle in der Schülerunfallversicherung im Jahr 2017 nach Art der Verkehrsbeteil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Diagramm 8" descr=""/>
          <p:cNvPicPr/>
          <p:nvPr/>
        </p:nvPicPr>
        <p:blipFill>
          <a:blip r:embed="rId1"/>
          <a:stretch/>
        </p:blipFill>
        <p:spPr>
          <a:xfrm>
            <a:off x="1182600" y="1981080"/>
            <a:ext cx="6705720" cy="440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9"/>
          <p:cNvSpPr/>
          <p:nvPr/>
        </p:nvSpPr>
        <p:spPr>
          <a:xfrm rot="16200000">
            <a:off x="7726320" y="474588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: Zahlen DGUV; eigene Da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1456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Was sind Schulwegpläne? Welche Planarten gibt es z. B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lwegplan für Fußgä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dschulweg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500720" y="1844640"/>
            <a:ext cx="446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chulweggrundlagenplan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Schulweggrundp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chulwegmaßnahmen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rafik 6" descr="test.png"/>
          <p:cNvPicPr/>
          <p:nvPr/>
        </p:nvPicPr>
        <p:blipFill>
          <a:blip r:embed="rId1"/>
          <a:stretch/>
        </p:blipFill>
        <p:spPr>
          <a:xfrm>
            <a:off x="826920" y="5157720"/>
            <a:ext cx="649440" cy="671760"/>
          </a:xfrm>
          <a:prstGeom prst="rect">
            <a:avLst/>
          </a:prstGeom>
          <a:ln w="0">
            <a:noFill/>
          </a:ln>
        </p:spPr>
      </p:pic>
      <p:pic>
        <p:nvPicPr>
          <p:cNvPr id="108" name="Grafik 7" descr="ScreenshotMusterplan1.jpg"/>
          <p:cNvPicPr/>
          <p:nvPr/>
        </p:nvPicPr>
        <p:blipFill>
          <a:blip r:embed="rId2"/>
          <a:stretch/>
        </p:blipFill>
        <p:spPr>
          <a:xfrm>
            <a:off x="468360" y="3284640"/>
            <a:ext cx="4062240" cy="28796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109" name="Grafik 8" descr="ScreenshotMusterplan2.jpg"/>
          <p:cNvPicPr/>
          <p:nvPr/>
        </p:nvPicPr>
        <p:blipFill>
          <a:blip r:embed="rId3"/>
          <a:stretch/>
        </p:blipFill>
        <p:spPr>
          <a:xfrm>
            <a:off x="4788000" y="3284640"/>
            <a:ext cx="4064040" cy="28796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"/>
          <p:cNvPicPr/>
          <p:nvPr/>
        </p:nvPicPr>
        <p:blipFill>
          <a:blip r:embed="rId1"/>
          <a:stretch/>
        </p:blipFill>
        <p:spPr>
          <a:xfrm>
            <a:off x="4683240" y="2924280"/>
            <a:ext cx="4446360" cy="30668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250920" y="2060640"/>
            <a:ext cx="4319640" cy="28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Schulwegplan gibt zumeist mit Hilfe ein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artographischen Darstell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häufig mit zusätzlich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textlichen Erläuterung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mpfehlungen fü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sichere Wege zur Schu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. Es werd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efährliche Stell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gegeben und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sichere Überquerungsstell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geze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95760" y="59500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Quelle: http://i5l.meschede.de/Bildung_und_Sport/schuluebersicht/schulwegplan_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ariengrundschule_meschede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50920" y="1457280"/>
            <a:ext cx="82296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Schulweg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2"/>
          <a:stretch/>
        </p:blipFill>
        <p:spPr>
          <a:xfrm>
            <a:off x="7732800" y="1341360"/>
            <a:ext cx="122688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2240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95280" y="2419200"/>
            <a:ext cx="4319640" cy="345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tandsaufnahme verkehrlicher Gegebenheiten und weiterer relevanter Informationen für den gesamten Einzugsbereich der Schule (Ist-Zustand). Dazu gehören z. B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fallgescheh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ahrenstell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traktive Ziel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querungs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4995720" y="1338120"/>
            <a:ext cx="4187520" cy="4969800"/>
            <a:chOff x="4995720" y="1338120"/>
            <a:chExt cx="4187520" cy="4969800"/>
          </a:xfrm>
        </p:grpSpPr>
        <p:pic>
          <p:nvPicPr>
            <p:cNvPr id="118" name="Picture 6" descr=""/>
            <p:cNvPicPr/>
            <p:nvPr/>
          </p:nvPicPr>
          <p:blipFill>
            <a:blip r:embed="rId1"/>
            <a:stretch/>
          </p:blipFill>
          <p:spPr>
            <a:xfrm>
              <a:off x="4995720" y="1338120"/>
              <a:ext cx="4025160" cy="49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7"/>
            <p:cNvSpPr/>
            <p:nvPr/>
          </p:nvSpPr>
          <p:spPr>
            <a:xfrm rot="16200000">
              <a:off x="8104320" y="5229000"/>
              <a:ext cx="1926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Quelle: Planerheft GD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9"/>
          <p:cNvSpPr/>
          <p:nvPr/>
        </p:nvSpPr>
        <p:spPr>
          <a:xfrm>
            <a:off x="250920" y="1457280"/>
            <a:ext cx="82296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Schulweggrundlag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4360" y="2276640"/>
            <a:ext cx="7416720" cy="28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n ein Resultat aus den Bestandsaufnahmen und der Erstellung eines Schulwegplanes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stellung geplanter Maßnahmen (baulich oder verkehrstechnisch) zur Sicherung der Schulwege (Soll-Zusta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n auch Hinweise darauf geben, ob die empfohlenen Schulwege eine Neuordnung der Schulbezirke naheleg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50920" y="1457280"/>
            <a:ext cx="82296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Schulwegmaßnahm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1456920"/>
            <a:ext cx="85690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Welche </a:t>
            </a:r>
            <a:r>
              <a:rPr b="1" lang="de-DE" sz="2400" spc="-1" strike="noStrike" u="sng">
                <a:solidFill>
                  <a:srgbClr val="0019e6"/>
                </a:solidFill>
                <a:uFillTx/>
                <a:latin typeface="Arial"/>
              </a:rPr>
              <a:t>Ziele</a:t>
            </a: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 können Schulwegpläne hab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öhung der Verkehrssicherheit/Vermeiden von Schulweg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änderung des Mobilitätsverhalt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n von Freizeit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esserung Situation Eltern-T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Wege zur Halte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chtiges Verhalten im und am Schulbu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rderung des Zu-Fuß-Geh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s Radfahren auf dem Weg zur 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sicherheiten bei der Wegewahl beseitigen (aus Sicht der Elt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lfestellung/Unterstützung bei der Verkehrs-/Mobilitätserzi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3" descr=""/>
          <p:cNvPicPr/>
          <p:nvPr/>
        </p:nvPicPr>
        <p:blipFill>
          <a:blip r:embed="rId1"/>
          <a:stretch/>
        </p:blipFill>
        <p:spPr>
          <a:xfrm>
            <a:off x="2409840" y="2205000"/>
            <a:ext cx="4635360" cy="3273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 rot="16200000">
            <a:off x="6208200" y="4159800"/>
            <a:ext cx="223488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Quelle: www.grundschule-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gw.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2409840" y="2305080"/>
            <a:ext cx="1133640" cy="762120"/>
          </a:xfrm>
          <a:prstGeom prst="ellipse">
            <a:avLst/>
          </a:prstGeom>
          <a:noFill/>
          <a:ln w="190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2409840" y="3095640"/>
            <a:ext cx="1133640" cy="1143000"/>
          </a:xfrm>
          <a:prstGeom prst="ellipse">
            <a:avLst/>
          </a:prstGeom>
          <a:noFill/>
          <a:ln w="190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3571920" y="3657600"/>
            <a:ext cx="1133280" cy="600120"/>
          </a:xfrm>
          <a:prstGeom prst="ellipse">
            <a:avLst/>
          </a:prstGeom>
          <a:noFill/>
          <a:ln w="190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3571920" y="2857680"/>
            <a:ext cx="1133280" cy="761760"/>
          </a:xfrm>
          <a:prstGeom prst="ellipse">
            <a:avLst/>
          </a:prstGeom>
          <a:noFill/>
          <a:ln w="190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438280" y="4229280"/>
            <a:ext cx="1133640" cy="1056960"/>
          </a:xfrm>
          <a:prstGeom prst="ellipse">
            <a:avLst/>
          </a:prstGeom>
          <a:noFill/>
          <a:ln w="190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3581280" y="4286160"/>
            <a:ext cx="1133640" cy="762120"/>
          </a:xfrm>
          <a:prstGeom prst="ellipse">
            <a:avLst/>
          </a:prstGeom>
          <a:noFill/>
          <a:ln w="190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456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Welche </a:t>
            </a:r>
            <a:r>
              <a:rPr b="1" lang="de-DE" sz="2400" spc="-1" strike="noStrike" u="sng">
                <a:solidFill>
                  <a:srgbClr val="0019e6"/>
                </a:solidFill>
                <a:uFillTx/>
                <a:latin typeface="Arial"/>
              </a:rPr>
              <a:t>Inhalte</a:t>
            </a:r>
            <a:r>
              <a:rPr b="0" lang="de-DE" sz="2400" spc="-1" strike="noStrike">
                <a:solidFill>
                  <a:srgbClr val="0019e6"/>
                </a:solidFill>
                <a:latin typeface="Arial"/>
              </a:rPr>
              <a:t> können Schulwegpläne hab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7210440" y="1400040"/>
            <a:ext cx="1752480" cy="2447640"/>
            <a:chOff x="7210440" y="1400040"/>
            <a:chExt cx="1752480" cy="2447640"/>
          </a:xfrm>
        </p:grpSpPr>
        <p:sp>
          <p:nvSpPr>
            <p:cNvPr id="134" name="Text Box 5"/>
            <p:cNvSpPr/>
            <p:nvPr/>
          </p:nvSpPr>
          <p:spPr>
            <a:xfrm>
              <a:off x="7219800" y="1400040"/>
              <a:ext cx="1743120" cy="824040"/>
            </a:xfrm>
            <a:prstGeom prst="rect">
              <a:avLst/>
            </a:prstGeom>
            <a:noFill/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inweise zum Überqueren einer Amp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6"/>
            <p:cNvSpPr/>
            <p:nvPr/>
          </p:nvSpPr>
          <p:spPr>
            <a:xfrm>
              <a:off x="7219800" y="2467080"/>
              <a:ext cx="1743120" cy="580680"/>
            </a:xfrm>
            <a:prstGeom prst="rect">
              <a:avLst/>
            </a:prstGeom>
            <a:noFill/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inweise zum Eltern-Tax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7210440" y="3267000"/>
              <a:ext cx="1752480" cy="580680"/>
            </a:xfrm>
            <a:prstGeom prst="rect">
              <a:avLst/>
            </a:prstGeom>
            <a:noFill/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nfrage nach Schulweghelfer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9"/>
          <p:cNvGrpSpPr/>
          <p:nvPr/>
        </p:nvGrpSpPr>
        <p:grpSpPr>
          <a:xfrm>
            <a:off x="171360" y="2190600"/>
            <a:ext cx="2266920" cy="2866680"/>
            <a:chOff x="171360" y="2190600"/>
            <a:chExt cx="2266920" cy="2866680"/>
          </a:xfrm>
        </p:grpSpPr>
        <p:sp>
          <p:nvSpPr>
            <p:cNvPr id="138" name="Text Box 20"/>
            <p:cNvSpPr/>
            <p:nvPr/>
          </p:nvSpPr>
          <p:spPr>
            <a:xfrm>
              <a:off x="181080" y="2190600"/>
              <a:ext cx="1762200" cy="824040"/>
            </a:xfrm>
            <a:prstGeom prst="rect">
              <a:avLst/>
            </a:prstGeom>
            <a:noFill/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inweise zum Einüben des Schulwe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171360" y="3286080"/>
              <a:ext cx="1762200" cy="824040"/>
            </a:xfrm>
            <a:prstGeom prst="rect">
              <a:avLst/>
            </a:prstGeom>
            <a:noFill/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inweise für einen sicheren Schulwe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2"/>
            <p:cNvSpPr/>
            <p:nvPr/>
          </p:nvSpPr>
          <p:spPr>
            <a:xfrm>
              <a:off x="171360" y="4476600"/>
              <a:ext cx="1752840" cy="580680"/>
            </a:xfrm>
            <a:prstGeom prst="rect">
              <a:avLst/>
            </a:prstGeom>
            <a:noFill/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deutung von Verkehrszeich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3"/>
            <p:cNvSpPr/>
            <p:nvPr/>
          </p:nvSpPr>
          <p:spPr>
            <a:xfrm>
              <a:off x="1943280" y="2647800"/>
              <a:ext cx="475920" cy="0"/>
            </a:xfrm>
            <a:prstGeom prst="line">
              <a:avLst/>
            </a:prstGeom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>
              <a:off x="1943280" y="3695760"/>
              <a:ext cx="475920" cy="0"/>
            </a:xfrm>
            <a:prstGeom prst="line">
              <a:avLst/>
            </a:prstGeom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1943280" y="4772160"/>
              <a:ext cx="495000" cy="0"/>
            </a:xfrm>
            <a:prstGeom prst="line">
              <a:avLst/>
            </a:prstGeom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6"/>
          <p:cNvGrpSpPr/>
          <p:nvPr/>
        </p:nvGrpSpPr>
        <p:grpSpPr>
          <a:xfrm>
            <a:off x="4676400" y="1790640"/>
            <a:ext cx="2552760" cy="2867040"/>
            <a:chOff x="4676400" y="1790640"/>
            <a:chExt cx="2552760" cy="2867040"/>
          </a:xfrm>
        </p:grpSpPr>
        <p:sp>
          <p:nvSpPr>
            <p:cNvPr id="145" name="Line 27"/>
            <p:cNvSpPr/>
            <p:nvPr/>
          </p:nvSpPr>
          <p:spPr>
            <a:xfrm flipH="1">
              <a:off x="4704840" y="1790640"/>
              <a:ext cx="2514600" cy="1428840"/>
            </a:xfrm>
            <a:prstGeom prst="line">
              <a:avLst/>
            </a:prstGeom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 flipH="1">
              <a:off x="4676400" y="2762280"/>
              <a:ext cx="2552760" cy="1209600"/>
            </a:xfrm>
            <a:prstGeom prst="line">
              <a:avLst/>
            </a:prstGeom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H="1">
              <a:off x="4704840" y="3543480"/>
              <a:ext cx="2514600" cy="1114200"/>
            </a:xfrm>
            <a:prstGeom prst="line">
              <a:avLst/>
            </a:prstGeom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30"/>
          <p:cNvSpPr/>
          <p:nvPr/>
        </p:nvSpPr>
        <p:spPr>
          <a:xfrm>
            <a:off x="7236000" y="5589720"/>
            <a:ext cx="1742760" cy="580680"/>
          </a:xfrm>
          <a:prstGeom prst="rect">
            <a:avLst/>
          </a:prstGeom>
          <a:noFill/>
          <a:ln w="3168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onsoren und Beteilig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4781520" y="5114880"/>
            <a:ext cx="2454120" cy="762120"/>
            <a:chOff x="4781520" y="5114880"/>
            <a:chExt cx="2454120" cy="762120"/>
          </a:xfrm>
        </p:grpSpPr>
        <p:sp>
          <p:nvSpPr>
            <p:cNvPr id="150" name="Oval 18"/>
            <p:cNvSpPr/>
            <p:nvPr/>
          </p:nvSpPr>
          <p:spPr>
            <a:xfrm>
              <a:off x="4781520" y="5114880"/>
              <a:ext cx="2286000" cy="352440"/>
            </a:xfrm>
            <a:prstGeom prst="ellipse">
              <a:avLst/>
            </a:prstGeom>
            <a:noFill/>
            <a:ln w="190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1"/>
            <p:cNvSpPr/>
            <p:nvPr/>
          </p:nvSpPr>
          <p:spPr>
            <a:xfrm flipH="1" flipV="1">
              <a:off x="5924160" y="5457960"/>
              <a:ext cx="1311480" cy="419040"/>
            </a:xfrm>
            <a:prstGeom prst="line">
              <a:avLst/>
            </a:prstGeom>
            <a:ln w="31680">
              <a:solidFill>
                <a:srgbClr val="001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07:51:32Z</dcterms:created>
  <dc:creator>Jens</dc:creator>
  <dc:description/>
  <dc:language>en-US</dc:language>
  <cp:lastModifiedBy>Holocher</cp:lastModifiedBy>
  <dcterms:modified xsi:type="dcterms:W3CDTF">2019-03-29T10:39:39Z</dcterms:modified>
  <cp:revision>375</cp:revision>
  <dc:subject/>
  <dc:title>Folie 1</dc:title>
</cp:coreProperties>
</file>